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F44-4B95-447D-A199-1C1C9A2F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B6A-16E8-45EE-A294-49A3CABD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269-9D40-44F5-BA2D-8D51DB43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29E-BFD9-42CC-BE40-315C7C5A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BD84-D544-4210-809D-01B94FB3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CB7B-39ED-43C1-BB11-9C1BED71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CE40-EBB5-4D37-8651-5F873937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2F8F-FACC-40A4-9AC9-1FEA0B3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1DFB-656A-4D2E-83FD-3E71492F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109B-A6DF-49D2-A03D-FB6D6D71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1F2-3B2D-4438-879D-A61B685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4B9-BA01-4B75-A597-46E3213C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ED96-6739-40BD-92AC-18808DD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ADE8-6339-4589-9B0F-7C2B45D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C4DF-C148-4448-B86F-4AF042D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B9CA-5D5C-4A27-980C-ABD0EF0B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2230-0783-47F3-8EA8-7FA2D3EB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31D-B526-44F8-93C2-4FFBC062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FE3-FC14-4D16-B2EF-02E87230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890-3B06-48E4-869C-90D3626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A9D-EF98-469B-8C7E-7CE032CE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A4C-AD7F-47D6-85EA-32230C6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B8C-01FC-4D1D-AF20-2D82F79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420-A0BC-49A3-A01C-6D98052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701-980F-45E6-AACA-1B7D8DEB4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8088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A82-5925-4159-BEB0-F19429058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vps.org/skp/flashback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vps.org/skp/autoevent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vps.org/skp/faceid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vps.org/skp/iiw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vps.org/skp/toolbox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vps.org/skp/securepack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304920"/>
            <a:ext cx="3200400" cy="62481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09480"/>
            <a:ext cx="2673360" cy="6858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ash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584360"/>
            <a:ext cx="2673360" cy="6858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558880"/>
            <a:ext cx="2673360" cy="6858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eID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535200"/>
            <a:ext cx="2673360" cy="6858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 Importer Wiz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533520" y="4510080"/>
            <a:ext cx="2673360" cy="6858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yam’s Tool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486400"/>
            <a:ext cx="2673360" cy="6858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 P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04920"/>
            <a:ext cx="5410080" cy="6248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FlashBack for PowerPoint 97/2000/2002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How do I rewind Flash Movies automatically during a slide show?" This question comes up often on the Microsoft Public PowerPoint Group, so I finally decided to work on it. FlashBack is the result. FlashBack will rewind the Flash movies inserted using the Shockwave Flash control automatic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5638680" y="5943600"/>
            <a:ext cx="28195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it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AutoEvents Add-in  for PowerPoint 2000/2002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 does not include any automatic macro support which are available in Excel &amp; Word. The only ones available are Auto_Open &amp; Auto_Close macros. However these fire automatically provided they are within an add-in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/>
          </p:cNvPr>
          <p:cNvSpPr/>
          <p:nvPr/>
        </p:nvSpPr>
        <p:spPr>
          <a:xfrm>
            <a:off x="5638680" y="5943600"/>
            <a:ext cx="28195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it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FaceID browser for Microsoft Office 97/2000/2002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Office menus contain a lot more icons which are hidden from the general user. These can be suitable used by developers for their customized solutions. However determining the FaceID value of a particular icon can be time consuming. FaceID browser is a tool which is just right for the tas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5638680" y="5943600"/>
            <a:ext cx="28195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it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Image Importer Wizard for PowerPoint 97/2000/2002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 provides support for importing several image formats into the presentations. But the procedure can be cumbersome and tiring when one has several images to insert. Solution - le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Importer Wiz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it for you in a spur of a mo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/>
          </p:cNvPr>
          <p:cNvSpPr/>
          <p:nvPr/>
        </p:nvSpPr>
        <p:spPr>
          <a:xfrm>
            <a:off x="5638680" y="5943600"/>
            <a:ext cx="28195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it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Shyam’s ToolBox for PowerPoint 97/2000/2002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any occasions I encountered that though the code would prove useful to the end user, he/she was at odds dealing with because of their unfamiliarity with VBA. Hence I decided to package the code snippets which have been posted by me in the past and still available in the archives into a user friendly interf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/>
          </p:cNvPr>
          <p:cNvSpPr/>
          <p:nvPr/>
        </p:nvSpPr>
        <p:spPr>
          <a:xfrm>
            <a:off x="5638680" y="5943600"/>
            <a:ext cx="28195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it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Secure Pack for PowerPoint 97/2000/2002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Pack is the ideal solution for distributing PowerPoint® presentations. Protect presentations from being changed by the viewer who receives them. With the Secure Pack Wizard, any Microsoft PowerPoint® user can quickly package one or multiple presentations into a SINGLE executable show. You can also include the files linked within them in the archive and distribute them for viewing and/or edi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2"/>
          </p:cNvPr>
          <p:cNvSpPr/>
          <p:nvPr/>
        </p:nvSpPr>
        <p:spPr>
          <a:xfrm>
            <a:off x="5638680" y="5943600"/>
            <a:ext cx="281952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it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680" y="1217520"/>
            <a:ext cx="8540640" cy="4422960"/>
          </a:xfrm>
          <a:prstGeom prst="rect">
            <a:avLst/>
          </a:prstGeom>
          <a:solidFill>
            <a:srgbClr val="99ccff">
              <a:alpha val="50000"/>
            </a:srgbClr>
          </a:solidFill>
          <a:ln w="57240">
            <a:solidFill>
              <a:srgbClr val="ee941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© 2001-2002 Shyam Pilla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me: http://www.mvps.org/sk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mail: Shyam@MVPs.Or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3:39:06Z</dcterms:created>
  <dc:creator>Shyam Pillai</dc:creator>
  <dc:description>© 2001-2002 Shyam Pillai. All rights reserved.</dc:description>
  <dc:language>en-US</dc:language>
  <cp:lastModifiedBy>Shyam</cp:lastModifiedBy>
  <dcterms:modified xsi:type="dcterms:W3CDTF">2002-02-27T14:46:03Z</dcterms:modified>
  <cp:revision>36</cp:revision>
  <dc:subject/>
  <dc:title>Mouse Over Demo</dc:title>
</cp:coreProperties>
</file>