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8A8-5831-47B8-91BB-CDFD26CC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9BC-E0C0-4045-B718-31BE111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7D9-F19C-4B11-B442-5346949A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522-8A99-4158-AECB-CE603D42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FD9-DD28-451E-9A10-D14A42DD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D30-B4DD-4F76-A8F8-9376124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BF7-AF72-40A1-9972-ADB005C6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F20-50FD-4400-8281-FD3046B8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F9B-0510-4AEC-94C0-9F15691B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4E1-9833-4B03-95FC-B0862F37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816-1E02-4CB7-BE10-8A8C1B5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9E-50F2-4C81-964E-34F0588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244920"/>
            <a:ext cx="6096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right ©2002 Shyam Pilla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4E7-6EC5-4F9C-8CDB-34329C26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 to illustrate how to locate every in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a specific keyword and highligh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5562720"/>
            <a:ext cx="8382240" cy="685800"/>
          </a:xfrm>
          <a:prstGeom prst="rect">
            <a:avLst/>
          </a:prstGeom>
          <a:solidFill>
            <a:srgbClr val="b38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on any of the buttons. If the text of the button is found in the four sha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ve them, it will be highlighted to the formatting of the text of the button clic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94472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bout the different resources available to get help while you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54016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the Microsoft Office Web site to find products and assist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3704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bout the new features in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229600" cy="73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PowerPoint and Microsoft Outlook work together to help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 a presentation to colleagues and start the process of review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4724280"/>
            <a:ext cx="251460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14880" y="4724280"/>
            <a:ext cx="251460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9440" y="4724280"/>
            <a:ext cx="251460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7:33:17Z</dcterms:created>
  <dc:creator>Shyam Pillai</dc:creator>
  <dc:description/>
  <dc:language>en-US</dc:language>
  <cp:lastModifiedBy>Owner</cp:lastModifiedBy>
  <dcterms:modified xsi:type="dcterms:W3CDTF">2002-10-23T15:24:17Z</dcterms:modified>
  <cp:revision>20</cp:revision>
  <dc:subject/>
  <dc:title>FindAndHighlight</dc:title>
</cp:coreProperties>
</file>